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55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5596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42860-668B-4F8E-BD82-945F14D6FD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4440" y="68580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454-FD0B-4D26-8596-B6207D0C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5440"/>
            <a:ext cx="82137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F0C-7577-4CDC-B07B-F2F8BDAE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632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920-A3EB-4919-9DF3-5B5EB89A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4240" y="171936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1640" y="171936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544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4240" y="401544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1640" y="401544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93C-1435-4C82-872E-CE718E3C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2177-29BF-48D7-A9C5-C2957180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40CF-724D-4DD6-936A-2BB9977E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8A9B-67CD-4EAF-AE7F-7C2DBC16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0520-F525-4FDE-8916-2CB7267B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59CC-5783-4015-8441-DF9DFC78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2796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3B51-3BA3-4EE4-BD02-DC120B63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E56B-5C17-4000-8E1F-496F89A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9F4-689B-4D4C-AF89-1AD19E6A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EF7C-B454-4B9E-AFFB-633F2C21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5440"/>
            <a:ext cx="82137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FA7D-3FCE-46BD-A5CE-CAC03148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5440"/>
            <a:ext cx="82137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D581-56DF-419F-8BB0-8E96B60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6E36-3491-464C-B77A-C090F023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4240" y="171936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1640" y="171936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544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4240" y="401544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1640" y="4015440"/>
            <a:ext cx="26445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27BB-3925-49B7-B105-707E3EFB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EA8-44C6-40DF-9BD0-FCE7D95A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49F-D0A8-4A62-93B2-1E3D96A0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188-75EC-4C6F-9D23-919642A7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115920"/>
            <a:ext cx="752796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B1F-C7E1-4940-A43D-1F4C8D1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593-2D9A-4F4D-8FF2-4155DB7B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6320" y="401544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BEF-D77B-4CB3-B265-B0B43694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6320" y="1719360"/>
            <a:ext cx="40082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5440"/>
            <a:ext cx="82137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423-2FFE-41AB-B50B-B622C4A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92200" indent="-234720">
              <a:lnSpc>
                <a:spcPct val="80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2120">
              <a:lnSpc>
                <a:spcPct val="80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2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21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FE469-1279-4A55-A1BB-9FAFBF9A73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75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76584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0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60F3C-48FE-4599-871F-B8157EAF4E3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381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920" y="127080"/>
            <a:ext cx="140328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5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5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5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5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5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5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58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kml.org/lkmlk/2009/12/10/456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ogfs.org/" TargetMode="External"/><Relationship Id="rId2" Type="http://schemas.openxmlformats.org/officeDocument/2006/relationships/hyperlink" Target="http://www.logfs.org/" TargetMode="External"/><Relationship Id="rId3" Type="http://schemas.openxmlformats.org/officeDocument/2006/relationships/hyperlink" Target="http://www.logfs.org/" TargetMode="External"/><Relationship Id="rId4" Type="http://schemas.openxmlformats.org/officeDocument/2006/relationships/hyperlink" Target="http://lwn.net/Articles/234441/" TargetMode="External"/><Relationship Id="rId5" Type="http://schemas.openxmlformats.org/officeDocument/2006/relationships/hyperlink" Target="http://lwn.net/Articles/377741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wn.net/Articles/388131" TargetMode="External"/><Relationship Id="rId2" Type="http://schemas.openxmlformats.org/officeDocument/2006/relationships/hyperlink" Target="http://lwn.net/Articles/389407" TargetMode="External"/><Relationship Id="rId3" Type="http://schemas.openxmlformats.org/officeDocument/2006/relationships/hyperlink" Target="http://lkml.org/lkml/2010/5/29/77" TargetMode="External"/><Relationship Id="rId4" Type="http://schemas.openxmlformats.org/officeDocument/2006/relationships/hyperlink" Target="http://lkml.org/lkml/2010/5/30/83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linux.org/images/b/be/Real_time_linux_failure.pdf" TargetMode="External"/><Relationship Id="rId2" Type="http://schemas.openxmlformats.org/officeDocument/2006/relationships/hyperlink" Target="http://elinux.org/images/b/be/Real_time_linux_failure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908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653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us of Embedded Linux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1760" y="297180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bedded Lin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ne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56400" cy="1838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2360" y="5589720"/>
            <a:ext cx="624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F Architecture Group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7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70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quash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ches for LZMA support were submitted to kernel mailing list in late 2009, but they missed the merge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8584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3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kml.org/lkmlk/2009/12/10/45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8584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inus wants lzma library access refacto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GE (Chan Jeong) recently submitted patches for LZO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85840">
              <a:lnSpc>
                <a:spcPct val="7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hillip said he'd mainline t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85840">
              <a:lnSpc>
                <a:spcPct val="7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old.nabble.com/-PATCH-1-2--Squashfs:-add-LZO-decompression-support-to28591383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shiba has reported on performance of th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GE says they are using UBIFS in product, in part because it boots faster than YAFFS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F has contracted with Free Electrons to measure UBIFS mount times and find problem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632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g-structured file system which keeps meta-data on fl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1280">
              <a:lnSpc>
                <a:spcPct val="80000"/>
              </a:lnSpc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ounts really fast (no need to build in-memory tables to start access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632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logfs.org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128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lso Documentation/filesystems/logfs.tx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632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nlined (after much work) in 2.6.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632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F supported this a few years a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632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128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lwn.net/Articles/234441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632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ouncement of mainl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1280">
              <a:lnSpc>
                <a:spcPct val="8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lwn.net/Articles/37774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le systems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FS is new, and it really needs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63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7193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try it out and report back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13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spend Blockers submission by Goo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cessor to wake 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discussion – no resolution y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lwn.net/Articles/38813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lwn.net/Articles/38940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especially http://lwn.net/Articles/39039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 thing I saw were counter-proposals to utilize PM QOS system to push some “suspend blocker” functionality outside of ker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lkml.org/lkml/2010/5/29/77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Alan Stern's propos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3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lkml.org/lkml/2010/5/30/8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or Mark Gross' propos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-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k continues on improving RT performance on embedded plat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eneral work lately consists of removing Big Kernel 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considered funding this, but it looks like it will happen without a funded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lwn.net/Articles/380174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ank Rowand has good information about using RT-preem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e Frank’s presentation from ELC 201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7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linux.org/images/b/be/Real_time_linux_failure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7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re info coming to eLinux wiki so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 / Mem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kernel image com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was merged in 2.6.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amzswap – (aka compcach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de the 2.6.33 merge wind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http://lwn.net/Articles/3346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 / Memory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848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mory threshhold notifications in cgroup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use cgroups to get notifications of memory problems on a per-app or app-group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rged in 2.6.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ttp://git.kernel.org/?p=linux/kernel/git/torvalds/linux-2.6.git;a=commitdiff;h=2e72b6347c9459e6cff5634ddc815485bae6985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e Documentation/cgroups/memory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stem Size / Memory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w allocator “SLEB” was propo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LEB was rej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s says he won't take a new allocator until another one is remo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ttp://lwn.net/Articles/389402/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ew plan is to incrementally improve SLAB, if possible, while trying to avoid regre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http://thread.gmane.org/gmane.linux.kernel.mm/4851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rnel 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edded Distrib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t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posal to merge ftrace and perf ring-buffer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Ingo not very enthusiast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ts of code may move from ftrace to pe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ttp://lwn.net/Articles/388978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ace-cmd and kernelsha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ew command line and GUI t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ee presentations from ELC and Collab summ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for data interpretation on a different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erf archive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ELF project to create a trace format data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Embedded Distribut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979280" y="369072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5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droi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70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droid 2.1 SDK (Eclair) released (28 Oct 2009)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umber of devices </a:t>
            </a:r>
            <a:r>
              <a:rPr b="0" lang="en-GB" sz="2600" spc="-1" strike="noStrike">
                <a:solidFill>
                  <a:srgbClr val="ff0000"/>
                </a:solidFill>
                <a:latin typeface="Arial"/>
              </a:rPr>
              <a:t>stil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ncrea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hones starting to appear (tablets and TV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gle TV /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ony Internet T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patches removed from mainline kernel (2.6.3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g Kroah-Hartman talked about this at E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100000"/>
              </a:lnSpc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elinux.org/images/c/ca/Gregkh-android-presentation-kernel.pd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452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gle and kernel developers had private meeting at Collaboration Summit, and hashed out some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14120"/>
            <a:ext cx="75312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ndroid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yo (v2.2) features discussed at Google I/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lvik now has a Just-In-Time compi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88960" indent="-4014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oyo runs apps up to 450% faster”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really?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88960" indent="-40140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ual Google I/O demo of popular game looked about 40% faster (in terms of frames per secon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87480" indent="-2793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very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ash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Fi teth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tch app up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0140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er Java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eg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lin + Maemo = Mee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 and Nokia joining forces to create single embedded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 http://meego.com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stuff about this at ELC and Collab summ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(partial) release was March 3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release of Meego 1.0 was May 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bunt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untu net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working towards targeting A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umors of them support Android ap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onical is working to support appli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new “Unity” netbook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buntu Light” targeted at instant-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P buys Palm and now owns Web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S used on current Palm P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cted to ship on tablets by end of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aven’t seen an WebOS opensource 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w Consort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a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linaro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on technologies and improvements of Linux for ARM plat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ems like “CELF for ARM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’s not entirely clear exactly what they are going to 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531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21700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3280" indent="-323280">
              <a:lnSpc>
                <a:spcPct val="75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WN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340920">
              <a:lnSpc>
                <a:spcPct val="7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lwn.net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340920">
              <a:lnSpc>
                <a:spcPct val="7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are not a subscriber, please do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340920">
              <a:lnSpc>
                <a:spcPct val="7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n invaluable community resource that needs you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340920">
              <a:lnSpc>
                <a:spcPct val="7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Prices just went up a bit ($7 per month vs. $5 per month for professional subscrip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75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nux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340920">
              <a:lnSpc>
                <a:spcPct val="7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elinux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3280" indent="-323280">
              <a:lnSpc>
                <a:spcPct val="75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-embedded mailing l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340920">
              <a:lnSpc>
                <a:spcPct val="7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2688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vger.kernel.org/vger-lists.html#linux-embed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Linux Kernel Version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79280" y="369072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5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ernel Ver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0 – 10 June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1 – 9 Sep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2 – 2 Dec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3 – 24 Feb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4 – 16 May 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kernels in 11 mon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v2.6.35 merge window just clo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6.35-rc1 – 30 May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ynchronous Suspend/Resu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threshold notifications for c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ux v2.6.35-rc1 (expect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oops d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s oops to persistent RAM so it can be recovered l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be obsoletes pramf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3778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epoint size re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rinks size of kernel with tracepoints turned on by about 100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lwn.net/Articles/38633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renaming to support –ffunction-se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ches to wat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 up symbol resolution during module lo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rts symbol table and avoid linear lookup cost per symbol when loading a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, Alan Jenkins, reports saving 20% of time on coldb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pends on modules being load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d not make it into 2.6.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Alan said he’ll try to mainline it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752796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atches to watch (cont.)</a:t>
            </a:r>
            <a:r>
              <a:rPr b="1" lang="ar-SA" sz="3900" spc="-1" strike="noStrike">
                <a:solidFill>
                  <a:srgbClr val="330066"/>
                </a:solidFill>
                <a:latin typeface="Arial"/>
                <a:ea typeface="Arial"/>
              </a:rPr>
              <a:t>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1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spend blo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33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roid opportunistic suspend patches (successor to wake lock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1840">
              <a:lnSpc>
                <a:spcPct val="8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900" spc="-1" strike="noStrike">
                <a:solidFill>
                  <a:srgbClr val="330066"/>
                </a:solidFill>
                <a:latin typeface="Arial"/>
              </a:rPr>
              <a:t>Technology Areas</a:t>
            </a:r>
            <a:endParaRPr b="1" lang="en-US" sz="4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979280" y="3690720"/>
            <a:ext cx="6248520" cy="23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5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toru Ueda</dc:creator>
  <dc:description/>
  <dc:language>en-US</dc:language>
  <cp:lastModifiedBy>Tim Bird</cp:lastModifiedBy>
  <dcterms:modified xsi:type="dcterms:W3CDTF">2010-06-03T23:06:47Z</dcterms:modified>
  <cp:revision>36</cp:revision>
  <dc:subject/>
  <dc:title>スライド 1</dc:title>
</cp:coreProperties>
</file>